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E53E1-C534-4E13-B812-E93278250D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F1428-F942-422A-A864-BFD2578F19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B2950-0AB1-473E-A341-2323F897F9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9D47F-DDBD-48C1-9642-6CC0F55B66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735BC-C3C6-434B-8F90-B230C30B8C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65BD7-4FC9-4055-A54C-A00B392C6E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93595-591B-4067-9EC8-7D3737085D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DEAF6-A925-4444-B2D1-67285C860B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D51A1-89D6-42FD-8B68-17416612D3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5A297-3610-4811-A3A6-688E85BD69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1B90E-D6A0-4F73-89EE-92AA9AF2A1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01B05-D537-4C40-89E7-3E2D84AEAD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2AB86-A254-4B44-85C1-ECAA96F0005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esources.curriculum.org/secretariat/coplanning/learning.shtml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44C0D-9E1D-4B31-8E00-A9995D5D0D3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14040" y="3352320"/>
            <a:ext cx="7620120" cy="2133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89000"/>
          </a:bodyPr>
          <a:p>
            <a:pPr marL="349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Breakout Session 3:  Responding to Students Over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9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Context - Proportional Reas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9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128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Lesson Play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 your lesson play with another group.  Large group discussion, with an option to sh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 learn more about Lesson Play, we have included an article on your memory sti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11293-ACBC-4440-A5BC-C8EA4BC3BE5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128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urkey Tim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9EC71-A97C-4549-B6E6-D4E812F2E12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1479600"/>
            <a:ext cx="8434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urkey weighs 9.75 kilogram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takes about 20 minutes to cook 500 grams of this turkey.  Based on this information, how many minutes does it take to cook the whole turke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20800" y="3405240"/>
            <a:ext cx="702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219320" y="4114800"/>
            <a:ext cx="591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ork with a partner to solve the probl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ost your solution, in preparation for a Gallery Walk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128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Gallery Wal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ur the posted work with your partner and provide written feedback to others, based on the math you s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8DF21-F945-4C78-8315-F9726B25A44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Gallery Walk - Another View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99072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view a video from the Schools in the Middle spring session.  Listen to how students provide feedback to each other, as they work on the same probl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11A59-1325-4B75-9A2E-2AF44FFB37F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After/Part 3/Consolida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99072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the following discussion 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is student feedback different from teacher feedbac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is it helpfu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you build this culture in your classro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teacher’s role during this discour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C193F-C42C-4DBF-840D-E99E1A47570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747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Fishing for Your Thought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761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 fontScale="91000"/>
          </a:bodyPr>
          <a:p>
            <a:pPr marL="348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 love fishing.  You put that line in the water and you don’t know what’s on the other end.  Your imagination is under ther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-Robert Alt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8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is quote relate to what you’ve done today?  Take a moment to jot your thoughts in your jour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8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ach a bobber to your fishing hat. A bobber lets you know that you might have a “fish” on the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8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77CFE-B400-4B98-B46B-75CF97CF5AC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Learning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ill practice providing feedback to students, based on their work, to move towards the attainment of learning go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ill reflect on the mathematical content understanding(proportional reasoning) required to plan for effective feedb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F0730-32C5-4C00-8CE2-55B103F2F24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2C898-E8E5-489E-ACF9-60042D9AA65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Before/Part 1/Minds On</a:t>
            </a:r>
            <a:br>
              <a:rPr sz="4400"/>
            </a:br>
            <a:r>
              <a:rPr b="0" lang="en-US" sz="4000" spc="-1" strike="noStrike">
                <a:solidFill>
                  <a:srgbClr val="2b5ca9"/>
                </a:solidFill>
                <a:latin typeface="Arial"/>
              </a:rPr>
              <a:t>Baiting the Hook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find a partner to play a game that will help us to activate our prior learning.  Find someone whose card has a fraction that is equivalent to you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72C0D-BC48-4B51-818C-9359570336D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Get In Line (A Dice Game)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 two dice.  Create a proper fraction.  Repeat four more times.  Work with your partner to order the fractions from least to great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ink about ways you could use this game, or a variation, with your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E6DA3-2B4E-4F23-990F-692EF5B3B00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Place the following numbers on a Number Lin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8D888-5AF4-465F-B77E-4ECBFBDD8F2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550120" cy="352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During/Part 2/Ac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be viewing a video clip from the CSC website to explore how teachers can work together, or alone, to examine student work in the midst of a 3 part lesson, and prepare to give feedback that will move student thinking forw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resources.curriculum.org/secretariat/coplanning/learning.s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ile you view, please record your thoughts on the observation sh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82CA9-FCE8-493F-AF67-F5358C37D02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During/Part 2/Ac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Group Discussion:  Discuss your observations, first with an elbow partner, then with your table group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hink-Pair-Sha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359EE-C15B-4AEF-AE25-DB85EE1A32D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Problem Solving with a Partner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362240" y="1868400"/>
            <a:ext cx="7095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2120" y="1371600"/>
            <a:ext cx="770724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ie, Christina, Audrey and Manny go shopping.  Josie spends 4/5 of her money, Christina spends 75% of her money, Audrey spends 0.68 of her money and Manny spends 17/20 of his money.  Who has the largest percentage of their money left?  Justify your answ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olve this problem with your partner and anticipate other possible student sol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128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Lesson Play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are some examples of student work from this Grade 6 EQAO problem from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 order to practice providing effective feedback, we are going to engage in a lesson play, where you have the opportunity to script/act out the discussion that might happen between the student and teacher, in response to a piece of student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5FEF3-A88E-4A6A-82F6-CF02CD4DE5C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cp:keywords/>
  <dc:language>en-US</dc:language>
  <cp:lastModifiedBy>IMS</cp:lastModifiedBy>
  <dcterms:modified xsi:type="dcterms:W3CDTF">2011-08-16T21:30:17Z</dcterms:modified>
  <cp:revision>19</cp:revision>
  <dc:subject/>
  <dc:title>&lt;Title&gt;</dc:title>
</cp:coreProperties>
</file>